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FFA-0B72-4D1A-A681-D0732411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DA2-B692-4A14-B397-73E26AB7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3E4-59C1-45A8-BB37-3A2EF6193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E6C-37E7-43AE-A4C1-62D285F8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31D-06FD-4502-810A-6A8B91EA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63B-4A43-4F6D-AB90-A8517467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0185-8CA4-4444-9231-5EE01A0F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36D-4E54-4067-A6D5-6275618F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A0B-90B4-4D66-9AF1-41D83309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D054-FB00-4AE4-8CEE-93B488B8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741-789F-4521-8539-5A8EC303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B85-A905-4A20-BB70-D05CA39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A260-65A4-4CB9-A841-105D36A3DD1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rázková úloha - zad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čti si pozorně, co říkají děti na obrázk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mysli si, se kterým dítětem souhlasíš a se kterým 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iš si svůj náz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diskutujte svá řešení ve skupin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myslete společně, jakými experimenty byste mohli dokázat nebo vyvrátit tvrzení v bubliná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pište své návr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xperimenty proveďte a ověřte své názo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dú: nakresli svoji obrázkovou úlohu týkající se nějaké vlastnosti kapaliny či plyn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451640" y="1628640"/>
            <a:ext cx="1314360" cy="1838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Users\Irena_2\AppData\Local\Microsoft\Windows\Temporary Internet Files\Content.IE5\N64HR0KA\MC900440554[1].wmf"/>
          <p:cNvPicPr/>
          <p:nvPr/>
        </p:nvPicPr>
        <p:blipFill>
          <a:blip r:embed="rId2"/>
          <a:stretch/>
        </p:blipFill>
        <p:spPr>
          <a:xfrm>
            <a:off x="971640" y="836640"/>
            <a:ext cx="116496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Irena_2\AppData\Local\Microsoft\Windows\Temporary Internet Files\Content.IE5\T5D0ZB25\MC900440571[1].png"/>
          <p:cNvPicPr/>
          <p:nvPr/>
        </p:nvPicPr>
        <p:blipFill>
          <a:blip r:embed="rId3"/>
          <a:stretch/>
        </p:blipFill>
        <p:spPr>
          <a:xfrm>
            <a:off x="5435640" y="5084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Irena_2\AppData\Local\Microsoft\Windows\Temporary Internet Files\Content.IE5\QHI98NS4\MC900440572[1].png"/>
          <p:cNvPicPr/>
          <p:nvPr/>
        </p:nvPicPr>
        <p:blipFill>
          <a:blip r:embed="rId4"/>
          <a:stretch/>
        </p:blipFill>
        <p:spPr>
          <a:xfrm>
            <a:off x="684360" y="43657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Irena_2\AppData\Local\Microsoft\Windows\Temporary Internet Files\Content.IE5\N64HR0KA\MC900232886[1].wmf"/>
          <p:cNvPicPr/>
          <p:nvPr/>
        </p:nvPicPr>
        <p:blipFill>
          <a:blip r:embed="rId5"/>
          <a:stretch/>
        </p:blipFill>
        <p:spPr>
          <a:xfrm>
            <a:off x="3780000" y="3429000"/>
            <a:ext cx="1066680" cy="1859040"/>
          </a:xfrm>
          <a:prstGeom prst="rect">
            <a:avLst/>
          </a:prstGeom>
          <a:ln w="0">
            <a:noFill/>
          </a:ln>
        </p:spPr>
      </p:pic>
      <p:sp>
        <p:nvSpPr>
          <p:cNvPr id="48" name="Zaoblený obdélníkový popisek 12"/>
          <p:cNvSpPr/>
          <p:nvPr/>
        </p:nvSpPr>
        <p:spPr>
          <a:xfrm>
            <a:off x="468360" y="2997360"/>
            <a:ext cx="2879640" cy="1296720"/>
          </a:xfrm>
          <a:prstGeom prst="wedgeRoundRectCallout">
            <a:avLst>
              <a:gd name="adj1" fmla="val -3847"/>
              <a:gd name="adj2" fmla="val 12195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ep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To je jasné, když je menší hloubka, tak Jitku voda lépe nadn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Zaoblený obdélníkový popisek 13"/>
          <p:cNvSpPr/>
          <p:nvPr/>
        </p:nvSpPr>
        <p:spPr>
          <a:xfrm>
            <a:off x="2050920" y="115920"/>
            <a:ext cx="2449800" cy="1009440"/>
          </a:xfrm>
          <a:prstGeom prst="wedgeRoundRectCallout">
            <a:avLst>
              <a:gd name="adj1" fmla="val -58166"/>
              <a:gd name="adj2" fmla="val 6328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ar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Zkus to v moři, tam se ti bude plavat lé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aoblený obdélníkový popisek 14"/>
          <p:cNvSpPr/>
          <p:nvPr/>
        </p:nvSpPr>
        <p:spPr>
          <a:xfrm>
            <a:off x="3635280" y="1700280"/>
            <a:ext cx="3384720" cy="1441440"/>
          </a:xfrm>
          <a:prstGeom prst="wedgeRoundRectCallout">
            <a:avLst>
              <a:gd name="adj1" fmla="val -21962"/>
              <a:gd name="adj2" fmla="val 92083"/>
              <a:gd name="adj3" fmla="val 16667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i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dyž plavu v rybníce, tak se mi lépe plave u břehu, než ve větší hloubce. Na hloubce se skoro topí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aoblený obdélníkový popisek 15"/>
          <p:cNvSpPr/>
          <p:nvPr/>
        </p:nvSpPr>
        <p:spPr>
          <a:xfrm>
            <a:off x="5508720" y="260280"/>
            <a:ext cx="3311280" cy="1081080"/>
          </a:xfrm>
          <a:prstGeom prst="wedgeRoundRectCallout">
            <a:avLst>
              <a:gd name="adj1" fmla="val 21166"/>
              <a:gd name="adj2" fmla="val 9911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Ter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Nesouhlasím Pepo,  voda přece lépe nadnáší, když je jí ví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aoblený obdélníkový popisek 16"/>
          <p:cNvSpPr/>
          <p:nvPr/>
        </p:nvSpPr>
        <p:spPr>
          <a:xfrm>
            <a:off x="5003640" y="3573360"/>
            <a:ext cx="3745080" cy="1368360"/>
          </a:xfrm>
          <a:prstGeom prst="wedgeRoundRectCallout">
            <a:avLst>
              <a:gd name="adj1" fmla="val -9796"/>
              <a:gd name="adj2" fmla="val 9342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Fra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Já si myslím, že to vůbec nesouvisí s fyzikou, Jitka se prostě na hloubce bojí, tak se špatně cít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11"/>
          <p:cNvSpPr/>
          <p:nvPr/>
        </p:nvSpPr>
        <p:spPr>
          <a:xfrm>
            <a:off x="324000" y="26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loha č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C:\Users\Irena_2\AppData\Local\Microsoft\Windows\Temporary Internet Files\Content.IE5\N64HR0KA\MC900357181[1].wmf"/>
          <p:cNvPicPr/>
          <p:nvPr/>
        </p:nvPicPr>
        <p:blipFill>
          <a:blip r:embed="rId1"/>
          <a:stretch/>
        </p:blipFill>
        <p:spPr>
          <a:xfrm>
            <a:off x="7093080" y="1628640"/>
            <a:ext cx="1101600" cy="189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:\Users\Irena_2\AppData\Local\Microsoft\Windows\Temporary Internet Files\Content.IE5\339FGSYL\MC900337884[1].wmf"/>
          <p:cNvPicPr/>
          <p:nvPr/>
        </p:nvPicPr>
        <p:blipFill>
          <a:blip r:embed="rId2"/>
          <a:stretch/>
        </p:blipFill>
        <p:spPr>
          <a:xfrm>
            <a:off x="4211640" y="4365720"/>
            <a:ext cx="4241880" cy="1747800"/>
          </a:xfrm>
          <a:prstGeom prst="rect">
            <a:avLst/>
          </a:prstGeom>
          <a:ln w="0">
            <a:noFill/>
          </a:ln>
        </p:spPr>
      </p:pic>
      <p:sp>
        <p:nvSpPr>
          <p:cNvPr id="56" name="Zaoblený obdélníkový popisek 13"/>
          <p:cNvSpPr/>
          <p:nvPr/>
        </p:nvSpPr>
        <p:spPr>
          <a:xfrm>
            <a:off x="5651640" y="189000"/>
            <a:ext cx="2952720" cy="1295280"/>
          </a:xfrm>
          <a:prstGeom prst="wedgeRoundRectCallout">
            <a:avLst>
              <a:gd name="adj1" fmla="val 16171"/>
              <a:gd name="adj2" fmla="val 7787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Hon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dyž bude mít průměrnou hustotu menší, než hustota vody, tak plavat můž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https://encrypted-tbn1.gstatic.com/images?q=tbn:ANd9GcSWlFfOs7-bMH05fcEzSEeOy_nCcDL2rO0ir1tmtYVby5IGj1Z8bA"/>
          <p:cNvPicPr/>
          <p:nvPr/>
        </p:nvPicPr>
        <p:blipFill>
          <a:blip r:embed="rId3"/>
          <a:stretch/>
        </p:blipFill>
        <p:spPr>
          <a:xfrm>
            <a:off x="468360" y="549360"/>
            <a:ext cx="1119240" cy="2205000"/>
          </a:xfrm>
          <a:prstGeom prst="rect">
            <a:avLst/>
          </a:prstGeom>
          <a:ln w="0">
            <a:noFill/>
          </a:ln>
        </p:spPr>
      </p:pic>
      <p:sp>
        <p:nvSpPr>
          <p:cNvPr id="58" name="Zaoblený obdélníkový popisek 10"/>
          <p:cNvSpPr/>
          <p:nvPr/>
        </p:nvSpPr>
        <p:spPr>
          <a:xfrm>
            <a:off x="2124000" y="260280"/>
            <a:ext cx="3024360" cy="1656000"/>
          </a:xfrm>
          <a:prstGeom prst="wedgeRoundRectCallout">
            <a:avLst>
              <a:gd name="adj1" fmla="val -79712"/>
              <a:gd name="adj2" fmla="val -8356"/>
              <a:gd name="adj3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 loď musí být udělaná z nějakého tenkého a lehkého plechu, jinak nemůže plavat, byla by moc těžk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7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75564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C:\Users\Irena_2\AppData\Local\Microsoft\Windows\Temporary Internet Files\Content.IE5\QHI98NS4\MC900422889[1].wmf"/>
          <p:cNvPicPr/>
          <p:nvPr/>
        </p:nvPicPr>
        <p:blipFill>
          <a:blip r:embed="rId4"/>
          <a:stretch/>
        </p:blipFill>
        <p:spPr>
          <a:xfrm>
            <a:off x="1403280" y="4653000"/>
            <a:ext cx="1079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Zaoblený obdélníkový popisek 11"/>
          <p:cNvSpPr/>
          <p:nvPr/>
        </p:nvSpPr>
        <p:spPr>
          <a:xfrm>
            <a:off x="324000" y="2852640"/>
            <a:ext cx="2808000" cy="1584360"/>
          </a:xfrm>
          <a:prstGeom prst="wedgeRoundRectCallout">
            <a:avLst>
              <a:gd name="adj1" fmla="val -921"/>
              <a:gd name="adj2" fmla="val 8852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at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Aby taková velká loď plavala, tak vztlaková síla vody musí být větší, než váha lodě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6" descr="C:\Users\Irena_2\AppData\Local\Microsoft\Windows\Temporary Internet Files\Content.IE5\N64HR0KA\MC900347297[1].wmf"/>
          <p:cNvPicPr/>
          <p:nvPr/>
        </p:nvPicPr>
        <p:blipFill>
          <a:blip r:embed="rId5"/>
          <a:stretch/>
        </p:blipFill>
        <p:spPr>
          <a:xfrm>
            <a:off x="3203640" y="3789360"/>
            <a:ext cx="1820880" cy="1649520"/>
          </a:xfrm>
          <a:prstGeom prst="rect">
            <a:avLst/>
          </a:prstGeom>
          <a:ln w="0">
            <a:noFill/>
          </a:ln>
        </p:spPr>
      </p:pic>
      <p:sp>
        <p:nvSpPr>
          <p:cNvPr id="66" name="Zaoblený obdélníkový popisek 12"/>
          <p:cNvSpPr/>
          <p:nvPr/>
        </p:nvSpPr>
        <p:spPr>
          <a:xfrm>
            <a:off x="3851280" y="2205000"/>
            <a:ext cx="2881440" cy="1441440"/>
          </a:xfrm>
          <a:prstGeom prst="wedgeRoundRectCallout">
            <a:avLst>
              <a:gd name="adj1" fmla="val -38884"/>
              <a:gd name="adj2" fmla="val 8832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Pe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Když do lodě naložíme víc nákladu, tak se víc potopí a bude méně nadnášen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14"/>
          <p:cNvSpPr/>
          <p:nvPr/>
        </p:nvSpPr>
        <p:spPr>
          <a:xfrm>
            <a:off x="179280" y="115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loha č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21:43:02Z</dcterms:created>
  <dc:creator>Irena</dc:creator>
  <dc:description/>
  <dc:language>en-US</dc:language>
  <cp:lastModifiedBy>Irena</cp:lastModifiedBy>
  <cp:lastPrinted>2015-03-21T13:44:50Z</cp:lastPrinted>
  <dcterms:modified xsi:type="dcterms:W3CDTF">2017-10-28T21:38:29Z</dcterms:modified>
  <cp:revision>14</cp:revision>
  <dc:subject/>
  <dc:title>Snímek 1</dc:title>
</cp:coreProperties>
</file>